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B8D-B96A-4525-86D0-E826BEA1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A1C-8F80-43A8-ABCC-C255D2A6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A73-3838-42BD-98A2-A05B62FA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F7D-B4D6-4D0C-AFEC-CD383EF5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C17A5-3251-4277-B8BD-04DD4DC3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B237B-5CE4-4256-94DE-BAC5B1A8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A2F09-97D1-4B26-970A-262819E7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9EC4E-AEFA-4164-9AF8-5F106CD8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74DA6-F22F-43B0-893E-8A1DB734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06206-D0CE-4B9C-9722-6F1C0084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51578-F724-4361-AF2C-E5E29762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D2C-8C2A-4E2D-B52E-DA0AF021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BF70F-25AC-4662-B657-FA186DB7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2CF00-2BBB-4237-BCA6-42ED3FD6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CFD95-9CE6-4A80-8AE6-11261F75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0EC27-7F02-447F-B8EE-3FE0F471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319FC-FD37-4202-8BBE-EB6ECF31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F90-09C3-49EC-81EB-8C39776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036-0A78-409A-AFED-8A82019C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272-6853-4FDC-9C8D-F4276635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1C8-832E-4921-93F3-E1E39E13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65C-BE4A-4D13-8789-8FBC74A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49D-87FA-412D-BBAC-FA0499FE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727-9C9A-42CD-8B0C-6380A668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2AC1-DC29-4D4B-B521-3FDDCEE966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8B2C-B25C-4217-A71B-67AC71FA23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6960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Obliczenia  na  liczbach  wymiernych  do  rozwiązywania  problemów   w kontekście   praktycznym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37720" y="4419360"/>
            <a:ext cx="723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Warszawie (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 jest godzina 11:00 czasu słonecznego. Oblicz czas słoneczny w tym samym momencie w Moskwie (3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1760" y="327744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0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962520"/>
            <a:ext cx="7620120" cy="10666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ługość geograficzna obu miejscowości jest pod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nawiasach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ykonujemy rysunek pomocnicz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5105160"/>
            <a:ext cx="7162560" cy="6858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Moskwie jest godzina  12.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85800" y="1219320"/>
            <a:ext cx="5263920" cy="3948120"/>
            <a:chOff x="685800" y="1219320"/>
            <a:chExt cx="5263920" cy="3948120"/>
          </a:xfrm>
        </p:grpSpPr>
        <p:sp>
          <p:nvSpPr>
            <p:cNvPr id="167" name=""/>
            <p:cNvSpPr/>
            <p:nvPr/>
          </p:nvSpPr>
          <p:spPr>
            <a:xfrm>
              <a:off x="685800" y="1219320"/>
              <a:ext cx="5263920" cy="3948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7892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6312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508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8120" y="4436280"/>
              <a:ext cx="4093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16600" y="1803960"/>
              <a:ext cx="4093920" cy="438480"/>
            </a:xfrm>
            <a:prstGeom prst="rect">
              <a:avLst/>
            </a:prstGeom>
            <a:solidFill>
              <a:srgbClr val="46341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            21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                   37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6600" y="2973960"/>
              <a:ext cx="7308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93920" y="3851280"/>
              <a:ext cx="2778120" cy="438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rszawa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skw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9920" y="2209680"/>
            <a:ext cx="2819160" cy="1981440"/>
          </a:xfrm>
          <a:prstGeom prst="rect">
            <a:avLst/>
          </a:prstGeom>
          <a:solidFill>
            <a:srgbClr val="00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4min = 64minut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h i 4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ematyka w praktyce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7" name="irc_mi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2781360" cy="3886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1 litr benzyny dorzuca do atmosfery 2,34 kg 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(dwutlenku węgla). Ile 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w ciągu tygodnia dorzuci do atmosfery kierowca, który przez pięć dni w tygodniu dojeżdża do pracy samochodem, pokonując trasę 50 km dziennie przy średnim zużyciu paliwa 14 litrów na 100 k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 rot="19884000">
            <a:off x="6400440" y="4114440"/>
            <a:ext cx="19494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1905120" cy="18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litrów na 10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litrów na 5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litrów paliwa spali w ciągu 5 d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litr dorzuca 2,34 kg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5 litrów dorzuci do atmosfe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5 x 2,34 kg = 81,9 kg C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257800"/>
            <a:ext cx="8382240" cy="5101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sz kierowca dorzuci do atmosfery około 82 k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20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 Kowalski ma dokonać opłaty za mieszkanie w kwocie 256,54 zł, za telefon 97,76 zł oraz energię elektryczną 56,20 zł. Ma do dyspozycji 500 zł. Czy wystarczy mu pieniędzy na te opłaty? Jeśli tak, to ile otrzyma resz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2590920" cy="1729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848720" y="304920"/>
            <a:ext cx="936360" cy="1114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307280" y="4343400"/>
            <a:ext cx="160164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1752480"/>
            <a:ext cx="152388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,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6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0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2895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1752480"/>
            <a:ext cx="259056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0,50 &lt;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343400"/>
            <a:ext cx="7543800" cy="1143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dpowied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a te opłaty wystarczy je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niędzy, otrzyma nawet 89,50 zł. resz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819520"/>
            <a:ext cx="3543120" cy="10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 - 410,50 = 89,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043760" y="152280"/>
            <a:ext cx="197640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czas pobytu nad jeziorem Tomek wypożyczy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jak w wypożyczalni A, a Maciek – w wypożyczalni 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tóra z ofert jest korzystniejsza, jeśli chce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ypożyczyć kajak na 2 godziny, a która – jeśli n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z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886200"/>
            <a:ext cx="2438640" cy="1676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5 z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 dodatkowo 3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3886200"/>
            <a:ext cx="2438640" cy="16765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2 z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 dodatkowo 4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600200"/>
          <a:ext cx="8229600" cy="3911760"/>
        </p:xfrm>
        <a:graphic>
          <a:graphicData uri="http://schemas.openxmlformats.org/drawingml/2006/table">
            <a:tbl>
              <a:tblPr/>
              <a:tblGrid>
                <a:gridCol w="914400"/>
                <a:gridCol w="3581280"/>
                <a:gridCol w="37339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YPOŻYCZAL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YPOŻYCZALNIA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zł+2x3=15zł+6zł=21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zł+2x4=12zł+8zł=20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5zł+5x3=15zł+15zł=30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2zł+5x4=12+20=32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762120" y="5257800"/>
            <a:ext cx="7467480" cy="800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śli chcemy wypożyczyć kajak na 2h korzystniejsza jest oferta wypożyczalni B, jeśli na 5h oferta wypożyczalni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259092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5 zł i dodatkowo 3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228600"/>
            <a:ext cx="2438280" cy="12952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2 zł i dodatkowo 4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wa kupiła dwie puszki groszku, każda po 3,50 zł za puszkę, oraz 3 paczki kawy. Za wszystko zapłaciła 67,60 zł. Ile kosztowała paczka kaw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781680" y="388620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543800" y="327672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343400" y="3276720"/>
            <a:ext cx="1371600" cy="1871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137160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Zadania, które tutaj przedstawiam mają na celu pokazanie  jak ważna jest umiejętność wykorzystania wiedzy z matematyki w różnych sytuacjach praktycznych, wcale niewyszukanych, ale takich zwyczajnych, z którymi możemy spotkać się w życiu codziennym. Wiedza matematyczna nie jest oderwana od rzeczywistości, towarzyszy nam często bez względu czy mamy na to ochotę czy ni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50 x 2=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7,60 - 7=60,60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,60 : 3=20,20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648320"/>
            <a:ext cx="8001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zka kawy kosztowała 20,20 z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jdroższa naklejka w sklepie kosztuje              o 1,7 zł więcej niż najtańsza, a na zakup obu trzeba wydać 2,4 zł. Ile kosztuje najdroższa naklejka w tym sklepi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-1,7 = 0,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7:2 = 0,3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35+1,7 = 2,0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648320"/>
            <a:ext cx="8001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jdroższa naklejka w tym sklepie kosztu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,20 z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396252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 - 1,7 = 0,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7 : 2 = 0,3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35 + 1,7 = 2,0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 dla chętny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biornik o pojemności  238 hl jest napełniany wodą z dwóch kranów.                  Z pierwszego woda wypływa z prędkością  200 l/h a z drugiego z prędkością 25 l/min   Ile czasu potrzeba na napełnienie tego zbiornik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Plik:Liczby kropla.gif"/>
          <p:cNvPicPr/>
          <p:nvPr/>
        </p:nvPicPr>
        <p:blipFill>
          <a:blip r:embed="rId1"/>
          <a:stretch/>
        </p:blipFill>
        <p:spPr>
          <a:xfrm>
            <a:off x="7162920" y="426708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„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Matematyka jest delikatnym kwiatem, który rośnie nie na każdej glebie i zakwita nie wiadomo kiedy i jak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                                       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(Jean Fab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5410080" y="2819520"/>
            <a:ext cx="23968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tematyka jest delikatnym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wiatem, który rośnie nie na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ażdej glebie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zakwita nie wiadomo kiedy i jak.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(Jean Fabre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66880" y="2743200"/>
            <a:ext cx="29480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ONIE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chemii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sanie równań reakcji chemicznych jest kluczową umiejętnością w nauce chemii, należy znać symbole pierwiastków, wartościowości, pisać poprawnie wzory związków chemicznych oraz uzgadniać strony reakcji. Uzgadnianie stron reakcji  wiąże się  z dobieraniem  współczynników stechiometrycznych czyli cyfr dzięki, którym jedna strona równania reakcji równa się drugiej stronie równa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apisz równania reakcji chemicznych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ód + woda → wodorotlenek sodu + wodór w postaci gazow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523240"/>
            <a:ext cx="5410080" cy="130356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Na + 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O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→   NaOH +  0,5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 / *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2 Na + 2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O →  2NaOH + 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966120"/>
            <a:ext cx="8229600" cy="581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lenek węgla (II) + tlen → tlenek węgla (I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4462920"/>
            <a:ext cx="6629400" cy="126612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CO + 0,5 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→  C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 / *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2 CO + 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→  2C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fizyce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ędkość, droga i gęstość to umiejętności fizyczne, które możemy zrozumieć dzięki wiadomościom nabytym               w czasie lekcji matematyk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y znamy gęstość ciała możemy oszacować jego masę, której bezpośrednio nie możemy zmierzyć. Gęstość to iloraz masy ciała m przez jego objętość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Wzór na g&amp;eogon;sto&amp;sacute;&amp;cacute;"/>
          <p:cNvPicPr/>
          <p:nvPr/>
        </p:nvPicPr>
        <p:blipFill>
          <a:blip r:embed="rId1"/>
          <a:stretch/>
        </p:blipFill>
        <p:spPr>
          <a:xfrm>
            <a:off x="3505320" y="4305240"/>
            <a:ext cx="17431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229600" cy="7617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ętość benzyny  wynosi około 24,3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828800" y="3429000"/>
                <a:ext cx="50292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0,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09480" y="17524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cz objętość benzyny jeżeli jej masa wynosi 17g, a gęstość 0,7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szybszy żółw porusza się z prędkości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5 cm/s. W jakim czasie pokona on 250 c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429000"/>
            <a:ext cx="502920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0 cm : 12,5 cm = 20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614680" cy="175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szybszy żółw pokona tę drogę w czasie 20 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blicz prędkość rowerzysty, który przebył drogę 600 dm w czasie 5 minut. Wynik podaj w m/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657600"/>
            <a:ext cx="21333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600 dm = 6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5 min = 300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86200" y="3657600"/>
                <a:ext cx="35812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838080" y="4952880"/>
            <a:ext cx="7620120" cy="10670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erzysta jechał z prędkością  0,02 m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924680" y="3581280"/>
                <a:ext cx="106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og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z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24680" y="2286000"/>
            <a:ext cx="1049400" cy="12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geografii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828800"/>
            <a:ext cx="8229600" cy="2895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ługiwanie się czasem słonecznym to umiejętność             w nauce geografii. Pełen obrót trwa w przybliżeniu              24 godziny. Oznacza to, że na obrót o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Ziemia potrzebuje 4 minut. Ponieważ Ziemia obraca się                            z zachodu na wschód, na zachód od miejscowości A jest godzina wcześniejsza, na wschód późniejsz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5-10T19:43:16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